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5060-AC29-4E43-8F7D-1FD8EEF32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A685-B8BC-4853-AF22-2C144FC25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safutures.com/sugartradin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EB35-7528-460B-9DE7-7CA1E5924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9E4C-B5D2-41BA-BDF2-EFE489804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F828-57DA-4D58-8A50-B390820BA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FD1A-F7E7-4E10-B545-795CA819F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nlm.nih.gov/medlineplus/ency/imagepages/8883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Pancreas is mostly an exocrine gland (digestive enzymes to the intestines), but 2% is the islets of Langerhans, endocrine cell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00DC-27BA-46F5-B58D-7EBA3CC3E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health.howstuffworks.com/diseases-conditions/diabetes/diabetes1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B14B-2AC5-47E3-889E-99943D536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ohone09.wikispaces.com/Group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9DF4-8EC3-4833-B725-0F28D28ED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images.yourdictionary.com/adrenal-gland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E583-289E-43C5-8CFE-DFA0C0511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tanford.edu/group/hopes/cgi-bin/wordpress/2010/06/stress-and-huntingtons-diseas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C5B0-90BA-472C-8F82-97BA8E73C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olumbiancentre.org/?p=31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0A1D-8446-4C33-A0F6-A2EA11A89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ocietynews.org/diabet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1CFF-B85F-4463-8448-1BFF6FC00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9C7-25A9-4435-98D7-8789FEE6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AFC-6679-4012-8FC5-76C6A99B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2D9-C714-4093-B6B3-E7302D11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0B2-EA8E-4FD5-9A88-9EE4B8B9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11E-8B8E-4C10-913C-4A65F6BE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7213-D7F7-4B94-AA38-344B52D1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3A0-E6FF-4B4B-813D-D8D146B5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C96-5977-4EE1-88FB-21301D4B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71D-45AE-47E5-8696-67BCC9F6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BFA-AFD1-465F-B7AC-D63BE7AA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7AF-56CF-4BA2-8C7E-0AE5B26F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D348-7956-4514-99FC-782F55EA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7ED2-F607-445E-B491-FA9A19298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gulating Blood Sugar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ype 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ab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 cells in pancreas cannot produce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s in inf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is daily administration of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ype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ab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production of insulin and/or the inability to bind to its receptors 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develops in adulthood, strong genetic link &amp; association with 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is controlled diet &amp; exercise and sometimes oral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station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ab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 in some women during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crease risk of future development of diabetes in mother and/or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8883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ets of Langerh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ells produ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cells produ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uc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iabetes-pancreas"/>
          <p:cNvPicPr/>
          <p:nvPr/>
        </p:nvPicPr>
        <p:blipFill>
          <a:blip r:embed="rId1"/>
          <a:stretch/>
        </p:blipFill>
        <p:spPr>
          <a:xfrm>
            <a:off x="4954680" y="1981080"/>
            <a:ext cx="319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Glucose_Homeostasis"/>
          <p:cNvPicPr/>
          <p:nvPr/>
        </p:nvPicPr>
        <p:blipFill>
          <a:blip r:embed="rId1"/>
          <a:stretch/>
        </p:blipFill>
        <p:spPr>
          <a:xfrm>
            <a:off x="2004840" y="609480"/>
            <a:ext cx="5134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is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al cortex produces 3 types of hormones, including glucocortic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tis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glucocorticoid that has many actions, including raising blood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A4adregl"/>
          <p:cNvPicPr/>
          <p:nvPr/>
        </p:nvPicPr>
        <p:blipFill>
          <a:blip r:embed="rId1"/>
          <a:stretch/>
        </p:blipFill>
        <p:spPr>
          <a:xfrm>
            <a:off x="5097600" y="1981080"/>
            <a:ext cx="291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f_an1hpaaxis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lood glucose level is too high it can cause a condition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glyc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lood glucose level is too low it can cause a condition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oglyc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Diabetes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glycemia due to problems with insulin production and/o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 symptoms of diabe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 ur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h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ppet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6:29:18Z</dcterms:created>
  <dc:creator>rubina khan</dc:creator>
  <dc:description/>
  <dc:language>en-US</dc:language>
  <cp:lastModifiedBy>rubina khan</cp:lastModifiedBy>
  <dcterms:modified xsi:type="dcterms:W3CDTF">2017-05-03T13:57:15Z</dcterms:modified>
  <cp:revision>110</cp:revision>
  <dc:subject/>
  <dc:title>Hormones that Affect Blood Sugar  &amp; Reproductive Hormones</dc:title>
</cp:coreProperties>
</file>